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DFC-AB9E-4041-89EE-BE693EB1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BB9-8367-49A9-8E0A-EA610A68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D28-C448-464A-AF76-D430C9C2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726-F8FB-4516-BD57-182571DB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E65-31EE-4D75-84FE-F047B826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88B-643F-406E-8B56-9C580B5A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475-C0DB-4BEA-9E05-A61A7B40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9CF-4F41-4D47-B4CE-626A736F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2BD-389A-431B-9762-B0CDF4E0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8DD-D2B7-4210-B4B2-63B56C09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F6A-2AF3-4C8A-96A1-7D7E2864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AF06-383B-4A3C-9D3A-716B63C3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19D0-CB35-45DC-9D5B-65B1ED07B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7:27:12Z</dcterms:created>
  <dc:creator>200202692</dc:creator>
  <dc:description/>
  <dc:language>en-US</dc:language>
  <cp:lastModifiedBy>200202692</cp:lastModifiedBy>
  <dcterms:modified xsi:type="dcterms:W3CDTF">2010-09-23T17:28:29Z</dcterms:modified>
  <cp:revision>1</cp:revision>
  <dc:subject/>
  <dc:title>Slide 1</dc:title>
</cp:coreProperties>
</file>